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FE1-18D1-400F-8DE2-35D52D8E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559-CC34-4220-ACE5-003401EC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E52-1E87-4A89-83CB-45BD6BE6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524-C210-4834-A376-88CA66D4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A587-429C-4C2E-8EC6-6E3DC612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9724-FE47-412A-9E5C-3B0D618F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C5B6-B02B-45C4-8CB7-2549F2F6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E835-5A65-44D0-A0B6-0A28A4A1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EDD8-DA97-488C-ADFA-2EF8C70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7D7C-07E7-407C-880C-93D01919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6973-F662-4E95-94A7-6AB4A371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CD0-21DB-4161-9A2C-97A2651A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4137-EE91-4079-9828-A16E9E1F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46DA-873D-4F4B-B83B-0CAAF413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6445-0B11-49AC-A5FA-4712CC58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58B6-843D-4ED7-9B29-02562E55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313B-2DE1-4152-ABDB-F0784862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995-9617-4777-B744-92B4335E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AD1-F4B2-46FB-9755-CFEED3A0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EB4-2D9B-4B8E-8F38-B3DFF3D1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4AB-9F56-47F9-BC8F-06B37F4F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906-1A2E-401C-B276-17EA108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6C1-972F-4250-AFAD-D16E1DE9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2DE-A8E4-427A-B6FE-79858900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7E5E-077C-4226-B893-DB4A051CBB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DDAA-8307-4152-A33D-BA9F707CFF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ffingtonpost.com/2008/03/28/uncovered-possible-inspi_n_93944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Garamond"/>
              </a:rPr>
              <a:t>What caused WWI?  How did the US get involved?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HINK WAY BACK WHEN TO YOUR WESTERN CIV CLA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merican Red Cross- Private aid organ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redcross.org/images/MEDIA_CustomProductCatalog/m37640086_763x380-ww1-numb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8559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304920"/>
          <a:ext cx="8229600" cy="6324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king of the Lusitania. War talk begins in the United States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27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tional Defense Act expands the Arm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7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35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uar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ermany renews unrestricted submarine warfare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.S.S. Housatonic sunk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.S. breaks diplomatic relations with German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.S. declares war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lective Service Ac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irst Liberty Loa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ar Industries Boar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Lever Food and Fuel Control Ac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ar Revenue Ac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cond Liberty Loa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ailroads are nationalized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76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ximum prices for stee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rnard Baruch heads the War Industries Boar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ermans begin massive offensive on the western fro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ird Liberty Loa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irst independent action by the American Expeditionary For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attle of Belleau Wood – the first sizable U.S. ac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cond Battle of the Marne – German offensive stopp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00,000 Americans in the Battle of Meuse-Argon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ourth Liberty Loa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rmisti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19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US moves towards wa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ective Service 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im Crow joins the army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destroy the mad brute">
            <a:hlinkClick r:id="rId1"/>
          </p:cNvPr>
          <p:cNvPicPr/>
          <p:nvPr/>
        </p:nvPicPr>
        <p:blipFill>
          <a:blip r:embed="rId2"/>
          <a:srcRect l="0" t="0" r="1961" b="0"/>
          <a:stretch/>
        </p:blipFill>
        <p:spPr>
          <a:xfrm>
            <a:off x="4838760" y="228600"/>
            <a:ext cx="4305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was the fighting actually lik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oughbo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ench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chine gu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an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tard g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Trenches - WWI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270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John Sargent Singer - Gassed - 1918"/>
          <p:cNvPicPr/>
          <p:nvPr/>
        </p:nvPicPr>
        <p:blipFill>
          <a:blip r:embed="rId2"/>
          <a:stretch/>
        </p:blipFill>
        <p:spPr>
          <a:xfrm>
            <a:off x="2666880" y="4487760"/>
            <a:ext cx="6477120" cy="237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British machine gun team wearing gas masks"/>
          <p:cNvPicPr/>
          <p:nvPr/>
        </p:nvPicPr>
        <p:blipFill>
          <a:blip r:embed="rId3"/>
          <a:stretch/>
        </p:blipFill>
        <p:spPr>
          <a:xfrm>
            <a:off x="6553080" y="2743200"/>
            <a:ext cx="2590920" cy="171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George Patton - Tank - WWI"/>
          <p:cNvPicPr/>
          <p:nvPr/>
        </p:nvPicPr>
        <p:blipFill>
          <a:blip r:embed="rId4"/>
          <a:stretch/>
        </p:blipFill>
        <p:spPr>
          <a:xfrm>
            <a:off x="2895480" y="2057400"/>
            <a:ext cx="2538360" cy="201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artillery-011"/>
          <p:cNvPicPr/>
          <p:nvPr/>
        </p:nvPicPr>
        <p:blipFill>
          <a:blip r:embed="rId5"/>
          <a:stretch/>
        </p:blipFill>
        <p:spPr>
          <a:xfrm>
            <a:off x="0" y="4038480"/>
            <a:ext cx="2503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ar end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vember 1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t 11AM in 191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.5 Million dead, 21 million wou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vilian cost as well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etary cost as well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ittle over 50,000 American dea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y of Versail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odrow Wilson and post war atmosphere – Treaty of Versail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poi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ng secret tre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eeing to freedom of the s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economic barriers to 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the size of national armies and nav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ing colonial claims with fairness towards colonial peo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rawing national borders – giving of self-deter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League of 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00400" y="1523880"/>
            <a:ext cx="5943600" cy="3764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Garamond"/>
              </a:rPr>
              <a:t>You are (MANIAC)s if you don’t know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itar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ass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What was the US doing while Europe was getting involved in WWI?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lson- Anglophile – only PH.D President- covertly supported Britis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olation- official poli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Defense Act – increased # of soldi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How did the US finally find itself involved in the war?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ecting Shipp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sit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boats May 19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PE- didn’t cause it- b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d lead US to become mo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gag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bruary 191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UP-big factor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rmans decla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restricted warfare on all shipp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lusitania"/>
          <p:cNvPicPr/>
          <p:nvPr/>
        </p:nvPicPr>
        <p:blipFill>
          <a:blip r:embed="rId1"/>
          <a:stretch/>
        </p:blipFill>
        <p:spPr>
          <a:xfrm>
            <a:off x="4803840" y="739800"/>
            <a:ext cx="4078080" cy="269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greatwarproject.org/wp-content/uploads/2016/03/unrestricted.jpg"/>
          <p:cNvPicPr/>
          <p:nvPr/>
        </p:nvPicPr>
        <p:blipFill>
          <a:blip r:embed="rId2"/>
          <a:stretch/>
        </p:blipFill>
        <p:spPr>
          <a:xfrm>
            <a:off x="4114800" y="3695760"/>
            <a:ext cx="4876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236760" y="0"/>
            <a:ext cx="5943600" cy="352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image.slidesharecdn.com/wwibookppt-100223192713-phpapp01/95/wwi-unabridged-56-728.jpg?cb=1266953344"/>
          <p:cNvPicPr/>
          <p:nvPr/>
        </p:nvPicPr>
        <p:blipFill>
          <a:blip r:embed="rId2"/>
          <a:stretch/>
        </p:blipFill>
        <p:spPr>
          <a:xfrm>
            <a:off x="1440" y="3176640"/>
            <a:ext cx="49183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57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Zimme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rman 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Te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l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eg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r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am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3" descr="Zimmerman Telegram"/>
          <p:cNvPicPr/>
          <p:nvPr/>
        </p:nvPicPr>
        <p:blipFill>
          <a:blip r:embed="rId1"/>
          <a:srcRect l="8859" t="0" r="0" b="0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914400" y="106668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ally announced March 1, 19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s://s3.amazonaws.com/data.tackk.com/mio/33806024/14137537514414/large.jpg"/>
          <p:cNvPicPr/>
          <p:nvPr/>
        </p:nvPicPr>
        <p:blipFill>
          <a:blip r:embed="rId2"/>
          <a:stretch/>
        </p:blipFill>
        <p:spPr>
          <a:xfrm>
            <a:off x="439560" y="831960"/>
            <a:ext cx="82472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Related image"/>
          <p:cNvPicPr/>
          <p:nvPr/>
        </p:nvPicPr>
        <p:blipFill>
          <a:blip r:embed="rId2"/>
          <a:stretch/>
        </p:blipFill>
        <p:spPr>
          <a:xfrm>
            <a:off x="447840" y="685800"/>
            <a:ext cx="8694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prospect.org/sites/default/files/styles/large/public/number_in_service_or_deployed.jpg?itok=NDqYH3O5"/>
          <p:cNvPicPr/>
          <p:nvPr/>
        </p:nvPicPr>
        <p:blipFill>
          <a:blip r:embed="rId2"/>
          <a:stretch/>
        </p:blipFill>
        <p:spPr>
          <a:xfrm>
            <a:off x="457200" y="123840"/>
            <a:ext cx="7099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0:32:30Z</dcterms:created>
  <dc:creator>Administrator</dc:creator>
  <dc:description/>
  <dc:language>en-US</dc:language>
  <cp:lastModifiedBy>Balazs, Stephen</cp:lastModifiedBy>
  <dcterms:modified xsi:type="dcterms:W3CDTF">2017-03-16T14:47:09Z</dcterms:modified>
  <cp:revision>17</cp:revision>
  <dc:subject/>
  <dc:title>America in Latin America</dc:title>
</cp:coreProperties>
</file>